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BF88-8F84-4E20-97BE-C90ED6BA7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EBEC-89F0-402B-A949-C99B6D6C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139C-580F-426F-B9B6-557E80530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4ED35-324F-40DC-8730-782D3C25C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140F-C0EF-4122-99BD-03D347B4E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201-0902-4C62-BEE6-746A8144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4109-A06D-40CB-BD62-78310E36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1535-FBB7-4395-B410-614F618CB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82EE-34B9-4D60-887F-E2715919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3D79-816D-409D-8E07-EDD3E26D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7871-1A6E-441B-98E4-7C80D6955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93DA-8AA9-453D-B05C-876A5F94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0E7CD-9E03-4CFD-AB4C-AAEFFA4A7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88x.com/2008/O7P98609.bmp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1979640" y="0"/>
            <a:ext cx="5543640" cy="7134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هاهي السماء تمطر م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لتزرع في الارض الكس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تصرخ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حتى العظام وحتى الق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الآن توقف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اليأس قاتل الا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لا طريق للعل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ا طريق ل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فبلوغ المنا صعب المنا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صعود السلالم للجب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صعب وأصعب العم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كآبة اشتع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BH" sz="2400" spc="-1" strike="noStrike">
                <a:solidFill>
                  <a:srgbClr val="ffffff"/>
                </a:solidFill>
                <a:latin typeface="Forte"/>
                <a:cs typeface="Andalus"/>
              </a:rPr>
              <a:t>ولون الدنيا كل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244000" y="1773360"/>
            <a:ext cx="9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 rot="17539200">
            <a:off x="5269320" y="2586240"/>
            <a:ext cx="4721400" cy="20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394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62000"/>
                </a:gradFill>
                <a:latin typeface="Arial Black"/>
              </a:rPr>
              <a:t>الملل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62000"/>
              </a:gradFill>
              <a:latin typeface="Arial Black"/>
              <a:ea typeface="Arial Black"/>
            </a:endParaRPr>
          </a:p>
        </p:txBody>
      </p:sp>
      <p:sp>
        <p:nvSpPr>
          <p:cNvPr id="46" name=""/>
          <p:cNvSpPr txBox="1"/>
          <p:nvPr/>
        </p:nvSpPr>
        <p:spPr>
          <a:xfrm rot="17503200">
            <a:off x="-273600" y="2804040"/>
            <a:ext cx="39513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4588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gradFill rotWithShape="0">
                  <a:gsLst>
                    <a:gs pos="0">
                      <a:srgbClr val="cc9900"/>
                    </a:gs>
                    <a:gs pos="100000">
                      <a:srgbClr val="ffcc99"/>
                    </a:gs>
                  </a:gsLst>
                  <a:lin ang="17598000"/>
                </a:gradFill>
                <a:latin typeface="Arial Black"/>
              </a:rPr>
              <a:t>قاتل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cc9900"/>
                  </a:gs>
                  <a:gs pos="100000">
                    <a:srgbClr val="ffcc99"/>
                  </a:gs>
                </a:gsLst>
                <a:lin ang="17598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3240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77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" dur="770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" dur="77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5" dur="1" fill="hold"/>
                                  <p:tgtEl>
                                    <p:spTgt spid="4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a50021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1T17:03:01Z</dcterms:created>
  <dc:creator>ALI</dc:creator>
  <dc:description/>
  <dc:language>en-US</dc:language>
  <cp:lastModifiedBy>ALI</cp:lastModifiedBy>
  <dcterms:modified xsi:type="dcterms:W3CDTF">2008-07-21T18:29:19Z</dcterms:modified>
  <cp:revision>2</cp:revision>
  <dc:subject/>
  <dc:title>الشريحة 1</dc:title>
</cp:coreProperties>
</file>